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45450-248C-42E7-AB78-48CE2E393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7"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8"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B2B65-6E75-424F-9D3F-CDBC8777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3"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42BA3-9CD0-4691-82E0-6B567B9C4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5"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6"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7"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8"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9"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0"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090A3-7D7B-40F2-95CB-2ED0A925E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A4994-5F7D-4DB4-9F95-F65224F01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47"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18A7B-B6D9-4503-8A34-02BE2D00E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49"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35552-046B-4DE8-A536-90FAA7485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5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ABC82-0C8E-43E8-B845-858EB1BA9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66369-891F-4CD6-AA88-111B62B87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A06B9-3D62-4BFB-BD01-5361BC804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5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14A26-7E81-4CC3-9653-0BC734977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0C8D-950E-4B22-80F3-761B9E3C2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2"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FFC8-321C-4B8F-9871-7E67A7DA0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4"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6"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BBFBD-E753-42DC-8037-26E7F740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68"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9"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99A67-2E8D-41C7-A0BA-D74433F01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7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4"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56DAF-5ECC-428E-9EDA-F583C1DDC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76"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7"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8"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9"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80"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81"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62BA1-5C84-414F-A9F3-53B292AF6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E9E61-3632-411E-A060-661DED5D6C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88"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BCD9A-3870-4D1C-892C-4593EAE21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0"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034FA-B221-411C-B38B-EFD0CC5E2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2"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3"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42AFD-46A2-413C-A989-8B005141D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407F9-7937-4535-A458-1A59A47A8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8"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AC7D8-589A-473D-9101-4B494D33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A6D2C-E743-4AFA-9BCA-8EAE19505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97"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8"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9"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69A3C-F8E1-48E3-9313-F029CFE5B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3"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C49B7-4833-4EBE-AC78-ED5613B3F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7"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354B6-2A79-4E86-8461-681E9ABB8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9"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0"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C00A7-870E-44B4-A891-FF274519C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12"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3"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4"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5"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C4F1F3-4EEF-4542-B93F-BF942797E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17"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8"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9"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0"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1"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22"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16840-AC20-478F-B2FA-F5AAF731E4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81536-29C4-4563-9855-707BC398D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1"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1CA87-E54C-4C66-941C-AF746CF7F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3"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B63ED-01D2-4473-A5DC-55724A70A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9604-94A5-4959-A9F3-BDD2DA05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3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3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A56FE-DB31-47E3-AADE-22747F297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E86293-CCE8-45FB-BAA1-2461FF097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366C6-F7D3-4F55-801A-B410EEB30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8DC6C-0D32-486C-BAE4-B09F1CB3A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4"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6"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410D0-2725-4942-B06C-CE07A5D1A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48"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49"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0"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13900-7A98-4943-9383-3259D6BCC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2"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3"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C74C3-BE45-4A17-A1CD-6BEB3F05D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58"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9D10C5-777B-468A-A215-27B212A941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60"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1"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2"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3"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4"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5"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CA02E-5C7D-44DF-8241-8002214F3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4C4DCD-34A2-4E64-8016-5557781123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173B1-0E6E-431B-9572-E00A7916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2"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1086C-AB48-4254-BDE2-46FFC5300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4"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82A58E-980D-4E7F-B0E2-85B3C6825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76"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7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7DF45-CCBD-45F6-8B88-F9DCFBFF0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8BB08-BF68-42B2-A9C7-0CA5EF536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6A3F0-9CFB-4527-87A3-323676E16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98E2A-D1AF-4732-90C5-1BA3EFF09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87"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1EF5F-03AE-4712-8507-AB119C87D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89"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1"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82FD5-56BD-4E38-8BB2-9B76D831B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3"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4"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9063E-4777-43D3-8D70-0E686786DE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7"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99"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DC3FE1-FF02-4CDD-A85E-C6FD1F18A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B56D-9BD1-4533-947A-D37E027FA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01"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2"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3"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4"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5"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6"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C9987-ED7F-4350-91B0-E064B1178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0393-AA34-46A1-9A64-A4B12FA4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19"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1"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5870-B089-43D3-89FD-277E0A536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Book Antiqua"/>
            </a:endParaRPr>
          </a:p>
        </p:txBody>
      </p:sp>
      <p:sp>
        <p:nvSpPr>
          <p:cNvPr id="23"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4"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25"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D146-5858-4750-8B68-D16264272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2" name="PlaceHolder 3"/>
          <p:cNvSpPr>
            <a:spLocks noGrp="1"/>
          </p:cNvSpPr>
          <p:nvPr>
            <p:ph type="dt" idx="1"/>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E5139-1E48-428D-A7FF-94E459F7D554}" type="datetime">
              <a:rPr b="0" lang="en-US" sz="1100" spc="-1" strike="noStrike">
                <a:solidFill>
                  <a:srgbClr val="ffffff"/>
                </a:solidFill>
                <a:latin typeface="Book Antiqua"/>
              </a:rPr>
              <a:t>07/30/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5F6B7-71FD-42A0-B34D-AAD518E05BF0}" type="slidenum">
              <a:rPr b="0" lang="en-US" sz="1100" spc="-1" strike="noStrike">
                <a:solidFill>
                  <a:srgbClr val="ffffff"/>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42"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43" name="PlaceHolder 3"/>
          <p:cNvSpPr>
            <a:spLocks noGrp="1"/>
          </p:cNvSpPr>
          <p:nvPr>
            <p:ph type="dt" idx="4"/>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A61DF-3C30-47D4-9AC2-11019D611312}"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73D38-40F7-48D6-B16C-8CF6A0FC8AE8}"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83"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84" name="PlaceHolder 3"/>
          <p:cNvSpPr>
            <a:spLocks noGrp="1"/>
          </p:cNvSpPr>
          <p:nvPr>
            <p:ph type="dt" idx="7"/>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45258-0DD6-44FF-9338-43EA278AA57B}"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5"/>
          <p:cNvSpPr>
            <a:spLocks noGrp="1"/>
          </p:cNvSpPr>
          <p:nvPr>
            <p:ph type="sldNum" idx="9"/>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A69F0-B2A4-4787-924D-9B89AC759250}"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123" name="Straight Connector 6"/>
          <p:cNvSpPr/>
          <p:nvPr/>
        </p:nvSpPr>
        <p:spPr>
          <a:xfrm>
            <a:off x="503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4" name="Straight Connector 7"/>
          <p:cNvSpPr/>
          <p:nvPr/>
        </p:nvSpPr>
        <p:spPr>
          <a:xfrm>
            <a:off x="4805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26"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27" name="PlaceHolder 3"/>
          <p:cNvSpPr>
            <a:spLocks noGrp="1"/>
          </p:cNvSpPr>
          <p:nvPr>
            <p:ph type="dt" idx="10"/>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1FF2B-6FF4-41B1-96DD-40A2BCE561C1}" type="datetime">
              <a:rPr b="0" lang="en-US" sz="1100" spc="-1" strike="noStrike">
                <a:solidFill>
                  <a:srgbClr val="ffffff"/>
                </a:solidFill>
                <a:latin typeface="Book Antiqua"/>
              </a:rPr>
              <a:t>07/30/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PlaceHolder 5"/>
          <p:cNvSpPr>
            <a:spLocks noGrp="1"/>
          </p:cNvSpPr>
          <p:nvPr>
            <p:ph type="sldNum" idx="12"/>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EFC85-DFF3-4906-867C-85354941B667}" type="slidenum">
              <a:rPr b="0" lang="en-US" sz="1100" spc="-1" strike="noStrike">
                <a:solidFill>
                  <a:srgbClr val="ffffff"/>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67"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68" name="PlaceHolder 3"/>
          <p:cNvSpPr>
            <a:spLocks noGrp="1"/>
          </p:cNvSpPr>
          <p:nvPr>
            <p:ph type="dt" idx="13"/>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E54B4-65A1-42BD-A184-10ECA978A010}" type="datetime">
              <a:rPr b="0" lang="en-US" sz="1100" spc="-1" strike="noStrike">
                <a:solidFill>
                  <a:srgbClr val="6d6452"/>
                </a:solidFill>
                <a:latin typeface="Book Antiqua"/>
              </a:rPr>
              <a:t>07/30/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5"/>
          <p:cNvSpPr>
            <a:spLocks noGrp="1"/>
          </p:cNvSpPr>
          <p:nvPr>
            <p:ph type="sldNum" idx="15"/>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d6452"/>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C516A-E874-4BE8-8B7D-CABFC9506463}"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93560" y="4011480"/>
            <a:ext cx="8156880" cy="1633680"/>
          </a:xfrm>
          <a:prstGeom prst="rect">
            <a:avLst/>
          </a:prstGeom>
          <a:ln w="0">
            <a:noFill/>
          </a:ln>
        </p:spPr>
      </p:pic>
      <p:pic>
        <p:nvPicPr>
          <p:cNvPr id="208" name="Subtitle 4" descr=""/>
          <p:cNvPicPr/>
          <p:nvPr/>
        </p:nvPicPr>
        <p:blipFill>
          <a:blip r:embed="rId2"/>
          <a:stretch/>
        </p:blipFill>
        <p:spPr>
          <a:xfrm>
            <a:off x="493560" y="4968720"/>
            <a:ext cx="8156880" cy="676440"/>
          </a:xfrm>
          <a:prstGeom prst="rect">
            <a:avLst/>
          </a:prstGeom>
          <a:ln w="0">
            <a:noFill/>
          </a:ln>
        </p:spPr>
      </p:pic>
      <p:pic>
        <p:nvPicPr>
          <p:cNvPr id="209" name="Picture 5" descr=""/>
          <p:cNvPicPr/>
          <p:nvPr/>
        </p:nvPicPr>
        <p:blipFill>
          <a:blip r:embed="rId3"/>
          <a:stretch/>
        </p:blipFill>
        <p:spPr>
          <a:xfrm>
            <a:off x="1523880" y="304920"/>
            <a:ext cx="6324840" cy="36576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Three Mile Island</a:t>
            </a:r>
            <a:endParaRPr b="0" lang="en-US" sz="5000" spc="-1" strike="noStrike">
              <a:solidFill>
                <a:srgbClr val="ffffff"/>
              </a:solidFill>
              <a:latin typeface="Book Antiqua"/>
            </a:endParaRPr>
          </a:p>
        </p:txBody>
      </p:sp>
      <p:sp>
        <p:nvSpPr>
          <p:cNvPr id="232" name=""/>
          <p:cNvSpPr txBox="1"/>
          <p:nvPr/>
        </p:nvSpPr>
        <p:spPr>
          <a:xfrm>
            <a:off x="498600" y="1546200"/>
            <a:ext cx="8146800" cy="4363920"/>
          </a:xfrm>
          <a:prstGeom prst="rect">
            <a:avLst/>
          </a:prstGeom>
          <a:noFill/>
          <a:ln w="0">
            <a:noFill/>
          </a:ln>
        </p:spPr>
        <p:txBody>
          <a:bodyPr anchor="t">
            <a:normAutofit fontScale="87000"/>
          </a:bodyPr>
          <a:p>
            <a:pPr marL="397440" indent="-39744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accident was a partial core meltdown in Unit 2 of the Three Mile Island Nuclear Generating Station in Dauphin County, Pennsylvania</a:t>
            </a:r>
            <a:endParaRPr b="0" lang="en-US" sz="2200" spc="-1" strike="noStrike">
              <a:solidFill>
                <a:srgbClr val="ffffff"/>
              </a:solidFill>
              <a:latin typeface="Book Antiqua"/>
            </a:endParaRPr>
          </a:p>
          <a:p>
            <a:pPr marL="397440" indent="-39744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ilures in the non-nuclear secondary system, followed by a stuck-open relief valve in the primary system, which let large amounts of nuclear reactor coolant to get out. The mechanical failures were combined with the initial failure of plant operators to recognize the situation as a loss-of-coolant accident due to poor training and human factors. In particular, a hidden indicator light led to an operator manually overriding the automatic emergency cooling system of the reactor because the operator mistakenly believed that there was too much coolant water present in the reactor and caused the steam pressure to release</a:t>
            </a:r>
            <a:endParaRPr b="0" lang="en-US" sz="2200" spc="-1" strike="noStrike">
              <a:solidFill>
                <a:srgbClr val="ffffff"/>
              </a:solidFill>
              <a:latin typeface="Book Antiqu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Japan</a:t>
            </a:r>
            <a:endParaRPr b="0" lang="en-US" sz="5000" spc="-1" strike="noStrike">
              <a:solidFill>
                <a:srgbClr val="ffffff"/>
              </a:solidFill>
              <a:latin typeface="Book Antiqua"/>
            </a:endParaRPr>
          </a:p>
        </p:txBody>
      </p:sp>
      <p:sp>
        <p:nvSpPr>
          <p:cNvPr id="234"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massive earthquake and tsunami hit Japan, which affected a nuclear reactor causing it to leak uncontrollably</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ater in and around Japan is being said to have radioactive material in </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235" name="Picture 3" descr=""/>
          <p:cNvPicPr/>
          <p:nvPr/>
        </p:nvPicPr>
        <p:blipFill>
          <a:blip r:embed="rId1"/>
          <a:stretch/>
        </p:blipFill>
        <p:spPr>
          <a:xfrm>
            <a:off x="1828800" y="3505320"/>
            <a:ext cx="5486400" cy="3001680"/>
          </a:xfrm>
          <a:prstGeom prst="rect">
            <a:avLst/>
          </a:prstGeom>
          <a:ln w="0">
            <a:noFill/>
          </a:ln>
        </p:spPr>
      </p:pic>
    </p:spTree>
  </p:cSld>
  <p:transition>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Yucca Mountain</a:t>
            </a:r>
            <a:endParaRPr b="0" lang="en-US" sz="5000" spc="-1" strike="noStrike">
              <a:solidFill>
                <a:srgbClr val="ffffff"/>
              </a:solidFill>
              <a:latin typeface="Book Antiqua"/>
            </a:endParaRPr>
          </a:p>
        </p:txBody>
      </p:sp>
      <p:sp>
        <p:nvSpPr>
          <p:cNvPr id="237"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ountain in Nevada</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posed nuclear waste sigh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t in use ye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nding for development of Yucca Mountain waste site was terminated in 2010 </a:t>
            </a:r>
            <a:endParaRPr b="0" lang="en-US" sz="2200" spc="-1" strike="noStrike">
              <a:solidFill>
                <a:srgbClr val="ffffff"/>
              </a:solidFill>
              <a:latin typeface="Book Antiqua"/>
            </a:endParaRPr>
          </a:p>
        </p:txBody>
      </p:sp>
      <p:pic>
        <p:nvPicPr>
          <p:cNvPr id="238" name="Picture 3" descr=""/>
          <p:cNvPicPr/>
          <p:nvPr/>
        </p:nvPicPr>
        <p:blipFill>
          <a:blip r:embed="rId1"/>
          <a:stretch/>
        </p:blipFill>
        <p:spPr>
          <a:xfrm>
            <a:off x="3809880" y="3962520"/>
            <a:ext cx="4114800" cy="2701800"/>
          </a:xfrm>
          <a:prstGeom prst="rect">
            <a:avLst/>
          </a:prstGeom>
          <a:ln w="0">
            <a:noFill/>
          </a:ln>
        </p:spPr>
      </p:pic>
      <p:pic>
        <p:nvPicPr>
          <p:cNvPr id="239" name="Picture 6" descr=""/>
          <p:cNvPicPr/>
          <p:nvPr/>
        </p:nvPicPr>
        <p:blipFill>
          <a:blip r:embed="rId2"/>
          <a:stretch/>
        </p:blipFill>
        <p:spPr>
          <a:xfrm>
            <a:off x="919080" y="4378320"/>
            <a:ext cx="1838520" cy="2286000"/>
          </a:xfrm>
          <a:prstGeom prst="rect">
            <a:avLst/>
          </a:prstGeom>
          <a:ln w="0">
            <a:noFill/>
          </a:ln>
        </p:spPr>
      </p:pic>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VIDDD</a:t>
            </a:r>
            <a:endParaRPr b="0" lang="en-US" sz="5000" spc="-1" strike="noStrike">
              <a:solidFill>
                <a:srgbClr val="ffffff"/>
              </a:solidFill>
              <a:latin typeface="Book Antiqua"/>
            </a:endParaRPr>
          </a:p>
        </p:txBody>
      </p:sp>
      <p:sp>
        <p:nvSpPr>
          <p:cNvPr id="241"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ttp://www.youtube.com/watch?v=VJfIbBDR3e8</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Description</a:t>
            </a:r>
            <a:endParaRPr b="0" lang="en-US" sz="5000" spc="-1" strike="noStrike">
              <a:solidFill>
                <a:srgbClr val="ffffff"/>
              </a:solidFill>
              <a:latin typeface="Book Antiqua"/>
            </a:endParaRPr>
          </a:p>
        </p:txBody>
      </p:sp>
      <p:sp>
        <p:nvSpPr>
          <p:cNvPr id="211"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uclear energy is energy by the splitting of uranium atoms in a process called fission. At the power plant, the fission process is used to generate heat for producing steam, which is used by a turbine to generate electricity.</a:t>
            </a:r>
            <a:endParaRPr b="0" lang="en-US" sz="3600" spc="-1" strike="noStrike">
              <a:solidFill>
                <a:srgbClr val="ffffff"/>
              </a:solidFill>
              <a:latin typeface="Book Antiqu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How power stations work</a:t>
            </a:r>
            <a:endParaRPr b="0" lang="en-US" sz="5000" spc="-1" strike="noStrike">
              <a:solidFill>
                <a:srgbClr val="ffffff"/>
              </a:solidFill>
              <a:latin typeface="Book Antiqua"/>
            </a:endParaRPr>
          </a:p>
        </p:txBody>
      </p:sp>
      <p:sp>
        <p:nvSpPr>
          <p:cNvPr id="213" name=""/>
          <p:cNvSpPr txBox="1"/>
          <p:nvPr/>
        </p:nvSpPr>
        <p:spPr>
          <a:xfrm>
            <a:off x="498600" y="1761840"/>
            <a:ext cx="8146800" cy="463860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First, nuclear power plant operators have to use the energy given</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off by enriched uranium and allow it to heat water into steam.</a:t>
            </a:r>
            <a:endParaRPr b="0" lang="en-US" sz="1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Enriched uranium is formed into inch-long (2.5-centimeter-</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long) pellets.  Next, the pellets are arranged into long rods, and the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rods are collected together into bundles. The bundles are put in</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water inside a pressure vessel. The water is used as a coolant.</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	</a:t>
            </a:r>
            <a:r>
              <a:rPr b="0" lang="en-US" sz="1200" spc="-1" strike="noStrike">
                <a:solidFill>
                  <a:srgbClr val="ffffff"/>
                </a:solidFill>
                <a:latin typeface="Book Antiqua"/>
              </a:rPr>
              <a:t>Without it, the uranium would eventually overheat and melt.</a:t>
            </a:r>
            <a:endParaRPr b="0" lang="en-US" sz="1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p:txBody>
      </p:sp>
      <p:pic>
        <p:nvPicPr>
          <p:cNvPr id="214" name="Picture 3" descr=""/>
          <p:cNvPicPr/>
          <p:nvPr/>
        </p:nvPicPr>
        <p:blipFill>
          <a:blip r:embed="rId1"/>
          <a:stretch/>
        </p:blipFill>
        <p:spPr>
          <a:xfrm>
            <a:off x="5638680" y="1546200"/>
            <a:ext cx="3235320" cy="27972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16"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control overheating, control rods made of a material that absorbs neutrons are put into the uranium bundle using a machine that can raise or lower them. Raising and lowering the control rods allow operators to control the rate of the nuclear reaction. </a:t>
            </a:r>
            <a:endParaRPr b="0" lang="en-US" sz="2400" spc="-1" strike="noStrike">
              <a:solidFill>
                <a:srgbClr val="ffffff"/>
              </a:solidFill>
              <a:latin typeface="Book Antiqu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18"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an operator wants the core to produce more heat, the control rods are lifted out of the uranium bundle, absorbing fewer neutrons. To reduce heat, they are lowered into the uranium bundle. The rods can also be lowered completely into the uranium bundle to shut the reactor down in case of an accident or to change the fuel.</a:t>
            </a:r>
            <a:endParaRPr b="0" lang="en-US" sz="24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ontd</a:t>
            </a:r>
            <a:endParaRPr b="0" lang="en-US" sz="5000" spc="-1" strike="noStrike">
              <a:solidFill>
                <a:srgbClr val="ffffff"/>
              </a:solidFill>
              <a:latin typeface="Book Antiqua"/>
            </a:endParaRPr>
          </a:p>
        </p:txBody>
      </p:sp>
      <p:sp>
        <p:nvSpPr>
          <p:cNvPr id="220"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ranium bundle acts as a high-energy source of heat. It heats the water and turns it to steam. The steam drives a turbine, which spins a generator to produce power.</a:t>
            </a:r>
            <a:endParaRPr b="0" lang="en-US" sz="2800" spc="-1" strike="noStrike">
              <a:solidFill>
                <a:srgbClr val="ffffff"/>
              </a:solidFill>
              <a:latin typeface="Book Antiqua"/>
            </a:endParaRPr>
          </a:p>
        </p:txBody>
      </p:sp>
      <p:pic>
        <p:nvPicPr>
          <p:cNvPr id="221" name="Picture 3" descr=""/>
          <p:cNvPicPr/>
          <p:nvPr/>
        </p:nvPicPr>
        <p:blipFill>
          <a:blip r:embed="rId1"/>
          <a:stretch/>
        </p:blipFill>
        <p:spPr>
          <a:xfrm>
            <a:off x="2666880" y="3733920"/>
            <a:ext cx="3276720" cy="28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Advantages</a:t>
            </a:r>
            <a:endParaRPr b="0" lang="en-US" sz="5000" spc="-1" strike="noStrike">
              <a:solidFill>
                <a:srgbClr val="ffffff"/>
              </a:solidFill>
              <a:latin typeface="Book Antiqua"/>
            </a:endParaRPr>
          </a:p>
        </p:txBody>
      </p:sp>
      <p:sp>
        <p:nvSpPr>
          <p:cNvPr id="223"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 greenhouse gases!</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el source (uranium) is abundan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fuel is cheap</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uel is compact which makes it easy to transport</a:t>
            </a:r>
            <a:endParaRPr b="0" lang="en-US" sz="2200" spc="-1" strike="noStrike">
              <a:solidFill>
                <a:srgbClr val="ffffff"/>
              </a:solidFill>
              <a:latin typeface="Book Antiqua"/>
            </a:endParaRPr>
          </a:p>
        </p:txBody>
      </p:sp>
      <p:pic>
        <p:nvPicPr>
          <p:cNvPr id="224" name="Picture 3" descr=""/>
          <p:cNvPicPr/>
          <p:nvPr/>
        </p:nvPicPr>
        <p:blipFill>
          <a:blip r:embed="rId1"/>
          <a:stretch/>
        </p:blipFill>
        <p:spPr>
          <a:xfrm>
            <a:off x="774720" y="4267080"/>
            <a:ext cx="2286000" cy="2286000"/>
          </a:xfrm>
          <a:prstGeom prst="rect">
            <a:avLst/>
          </a:prstGeom>
          <a:ln w="0">
            <a:noFill/>
          </a:ln>
        </p:spPr>
      </p:pic>
      <p:pic>
        <p:nvPicPr>
          <p:cNvPr id="225" name="Picture 5" descr=""/>
          <p:cNvPicPr/>
          <p:nvPr/>
        </p:nvPicPr>
        <p:blipFill>
          <a:blip r:embed="rId2"/>
          <a:stretch/>
        </p:blipFill>
        <p:spPr>
          <a:xfrm>
            <a:off x="4495680" y="4195800"/>
            <a:ext cx="2743200" cy="2357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Disadvantages</a:t>
            </a:r>
            <a:endParaRPr b="0" lang="en-US" sz="5000" spc="-1" strike="noStrike">
              <a:solidFill>
                <a:srgbClr val="ffffff"/>
              </a:solidFill>
              <a:latin typeface="Book Antiqua"/>
            </a:endParaRPr>
          </a:p>
        </p:txBody>
      </p:sp>
      <p:sp>
        <p:nvSpPr>
          <p:cNvPr id="227"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radiation accidents</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ong term storage becomes difficult</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st is high</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uclear energy makes nuclear weapons possible</a:t>
            </a:r>
            <a:endParaRPr b="0" lang="en-US" sz="2200" spc="-1" strike="noStrike">
              <a:solidFill>
                <a:srgbClr val="ffffff"/>
              </a:solidFill>
              <a:latin typeface="Book Antiqua"/>
            </a:endParaRPr>
          </a:p>
        </p:txBody>
      </p:sp>
      <p:pic>
        <p:nvPicPr>
          <p:cNvPr id="228" name="Picture 3" descr=""/>
          <p:cNvPicPr/>
          <p:nvPr/>
        </p:nvPicPr>
        <p:blipFill>
          <a:blip r:embed="rId1"/>
          <a:stretch/>
        </p:blipFill>
        <p:spPr>
          <a:xfrm>
            <a:off x="1905120" y="4038480"/>
            <a:ext cx="3886200" cy="268920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641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hernobyl</a:t>
            </a:r>
            <a:endParaRPr b="0" lang="en-US" sz="5000" spc="-1" strike="noStrike">
              <a:solidFill>
                <a:srgbClr val="ffffff"/>
              </a:solidFill>
              <a:latin typeface="Book Antiqua"/>
            </a:endParaRPr>
          </a:p>
        </p:txBody>
      </p:sp>
      <p:sp>
        <p:nvSpPr>
          <p:cNvPr id="230" name=""/>
          <p:cNvSpPr txBox="1"/>
          <p:nvPr/>
        </p:nvSpPr>
        <p:spPr>
          <a:xfrm>
            <a:off x="498600" y="1762200"/>
            <a:ext cx="8146800" cy="4363920"/>
          </a:xfrm>
          <a:prstGeom prst="rect">
            <a:avLst/>
          </a:prstGeom>
          <a:noFill/>
          <a:ln w="0">
            <a:noFill/>
          </a:ln>
        </p:spPr>
        <p:txBody>
          <a:bodyPr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nuclear accident that occurred on April 26, 1986 at the Chernobyl Nuclear Power Plant in Ukraine</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uring a systems test at reactor number four of the Chernobyl plant, there was a power output surge.  When workers attempted an emergency shutdown, a more extreme spike in power output occurred, which led to a reactor vessel rupture and a series of explosions.  Radioactive smoke was released into the air.</a:t>
            </a:r>
            <a:endParaRPr b="0" lang="en-US" sz="2200" spc="-1" strike="noStrike">
              <a:solidFill>
                <a:srgbClr val="ffffff"/>
              </a:solidFill>
              <a:latin typeface="Book Antiqua"/>
            </a:endParaRPr>
          </a:p>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bout 30 people died</a:t>
            </a:r>
            <a:endParaRPr b="0" lang="en-US" sz="2200" spc="-1" strike="noStrike">
              <a:solidFill>
                <a:srgbClr val="ffffff"/>
              </a:solidFill>
              <a:latin typeface="Book Antiqua"/>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6:52:55Z</dcterms:created>
  <dc:creator>PA Department of Education Classrooms for the Future</dc:creator>
  <dc:description/>
  <dc:language>en-US</dc:language>
  <cp:lastModifiedBy>PA Department of Education Classrooms for the Future</cp:lastModifiedBy>
  <dcterms:modified xsi:type="dcterms:W3CDTF">2011-04-27T17:23:19Z</dcterms:modified>
  <cp:revision>9</cp:revision>
  <dc:subject/>
  <dc:title>Nuclear Energy </dc:title>
</cp:coreProperties>
</file>